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96F1-0DE9-4305-94E4-B6443E8B8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2688-5B93-4B7F-9695-7FA973B7B0D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AE3D-7162-46CB-86F3-99959B3D4E5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9A1D-DC17-42ED-83FA-4059C3EEDA5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A02E-FE3F-4AAF-99F6-83BE323AA4C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FC01-6787-482C-ADC1-82D37EB4538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D746-445C-4556-9014-1530E4AAB81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4A10-3107-45A3-BA58-D7B91AF0626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38F-3817-4EF3-9679-A67E6AC5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327-CA78-46BE-A92E-873F54D2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364-CCEC-4095-A878-D7BBB5A0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97E-C4E5-4A6B-9105-A327BCF0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DFF1-4521-4AFB-A89A-E0390AA0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8440-C5E3-4393-AE6A-637295CA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D223-2378-41D0-8798-784D5B70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3CCC-92B1-471B-AAB6-288CD18C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23F7-527C-4058-9B44-B08F138B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6D56-24AD-4969-93F9-87354583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3786-806C-42A3-8C99-323BA5F6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A2B-4728-4117-A23F-580150D9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9018-FDA8-4B77-AD47-53CD0D97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2814-2856-4A33-8259-CA73A5AE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1C68-2A0E-42AC-801B-883BF311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28CF-7688-4D82-8D8B-FB3C8E9B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355E-46F2-4236-988E-1221FA37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672-62C7-4C3F-8134-2C890F0F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2757-7145-4763-B9FE-558E835F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18A-090D-4C15-AFD6-78131BFD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B36-D7CF-4946-A3C1-FFBFFB00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5B5-6B62-4AAC-A657-2D4EB69B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582-7AE1-4383-83EA-BD2BF012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3D2-D05A-41D2-A582-384B229A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DFAD-FFEE-4F10-A2E7-EB0A680A5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7F47-DA5D-4C63-98BB-66D0A1FA0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iofuels.croplife.org/index.php?page=biofuel-basics" TargetMode="External"/><Relationship Id="rId2" Type="http://schemas.openxmlformats.org/officeDocument/2006/relationships/hyperlink" Target="http://www.thegreencarwebsite.co.uk/biofuels" TargetMode="External"/><Relationship Id="rId3" Type="http://schemas.openxmlformats.org/officeDocument/2006/relationships/hyperlink" Target="http://biofuelguide.net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492.imageshack.us/img492/3024/sugarcane1fa.jpg&amp;imgrefurl=http://lifeinstillmode.blogspot.com/2006/02/sugar-cane.html&amp;usg=__Yi6dm1QLNqzYIZmoHutVCRIBOTg=&amp;h=600&amp;w=400&amp;sz=148&amp;hl=en&amp;start=4&amp;um=1&amp;tbnid=n0LJGzn1gvzsUM:&amp;tbnh=135&amp;tbnw=90&amp;prev=/images%3Fq%3Dsugar%2Bcane%26hl%3Den%26rlz%3D1T4TSHB_enUS292US297%26sa%3DX%26um%3D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sfaschool.org/GRADES/3_209_files/asian_toad_1.gif&amp;imgrefurl=http://www.sfaschool.org/GRADES/3_209_files/asian_climbing_toad.htm&amp;usg=__Q8hnMKL8f4rmfLJYvYMPkD5a-PE=&amp;h=233&amp;w=243&amp;sz=23&amp;hl=en&amp;start=4&amp;um=1&amp;tbnid=0C9wmBUgXnjq7M:&amp;tbnh=105&amp;tbnw=110&amp;prev=/images%3Fq%3Dasian%2Brainforests%2Band%2Banimals%26hl%3Den%26rlz%3D1T4TSHB_enUS292US297%26um%3D1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Biofuel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Micki &amp; Ke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26744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http://www.greenroofoffsets.co.uk/grx/co2.jpg"/>
          <p:cNvPicPr/>
          <p:nvPr/>
        </p:nvPicPr>
        <p:blipFill>
          <a:blip r:embed="rId1"/>
          <a:stretch/>
        </p:blipFill>
        <p:spPr>
          <a:xfrm>
            <a:off x="2666880" y="1066680"/>
            <a:ext cx="5953320" cy="3962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ga.water.usgs.gov/edu/pictures/irrigation.jpg"/>
          <p:cNvPicPr/>
          <p:nvPr/>
        </p:nvPicPr>
        <p:blipFill>
          <a:blip r:embed="rId2"/>
          <a:stretch/>
        </p:blipFill>
        <p:spPr>
          <a:xfrm>
            <a:off x="1752480" y="4191120"/>
            <a:ext cx="3552840" cy="2466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Carbon emissions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chinery used to cultivate crops and plants emit hefty amount of e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Water use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normous quantities are required to properly irrigate crops as well as manufacture fuel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rains local and regional water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572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"/>
              </a:rPr>
              <a:t>Disadvantages Continued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44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nies try to offset carbon output by planting trees but this only helps for a little time; to be truly carbon neutral they would have to be locked in for millions of yea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biofuels there is a cycle- plants are used, which release CO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verted into biofuel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2 stored in plants (removed from atmosphe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33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Carbon Neutra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greenliving.lovetoknow.com/Advantages_and_Disadvantages_of_Bio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thegreencarwebsite.co.uk/biofuels.asp#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en.wikipedia.org/wiki/Ethanol_fuel#United_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ezinearticles.com/?Carbon-Neutral---What-Does-It-Mean?&amp;id=3390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urc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biofuels.croplife.org/index.php?page=biofuel-ba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ww.thegreencarwebsite.co.uk/bio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biofuelguide.net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eneral Descri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in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an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ohol made of oxygen, hydrogen and carb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ed from fermentation of cellulose (sugars) of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4724280"/>
            <a:ext cx="2133720" cy="1924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2762280" cy="2362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14600" y="5029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.. Continu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dies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getable oils (canola, corn, sunflower, etc.) and recycled g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toxic and biodegrad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ed from transesterification, where oils react with an alcohol (ex: ethanol) mixed with a catalyst (ex: sodium hydrox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2354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http://tbn1.google.com/images?q=tbn:n0LJGzn1gvzsUM:http://img492.imageshack.us/img492/3024/sugarcane1f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2286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static.howstuffworks.com/gif/corn-4.jpg"/>
          <p:cNvPicPr/>
          <p:nvPr/>
        </p:nvPicPr>
        <p:blipFill>
          <a:blip r:embed="rId3"/>
          <a:stretch/>
        </p:blipFill>
        <p:spPr>
          <a:xfrm>
            <a:off x="3809880" y="152280"/>
            <a:ext cx="1676520" cy="1459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684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produced and consumed in U.S. more than any other countries in the wor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duced from a variety of crops such as: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Arial"/>
              </a:rPr>
              <a:t>Sugar cane  </a:t>
            </a:r>
            <a:r>
              <a:rPr b="0" lang="en-US" sz="3000" spc="-1" strike="noStrike">
                <a:solidFill>
                  <a:srgbClr val="85540a"/>
                </a:solidFill>
                <a:latin typeface="Arial"/>
              </a:rPr>
              <a:t>bagasse  miscathus  sugar beet  sorghum  grain sorghum   switchgrass  barley  hemp  kenaf  potatoes  sweet potatoes  cassava  sunflower  fruit  molasses  </a:t>
            </a:r>
            <a:r>
              <a:rPr b="0" lang="en-US" sz="3000" spc="-1" strike="noStrike">
                <a:solidFill>
                  <a:srgbClr val="0070c0"/>
                </a:solidFill>
                <a:latin typeface="Arial"/>
              </a:rPr>
              <a:t>corn</a:t>
            </a:r>
            <a:r>
              <a:rPr b="0" lang="en-US" sz="3000" spc="-1" strike="noStrike">
                <a:solidFill>
                  <a:srgbClr val="85540a"/>
                </a:solidFill>
                <a:latin typeface="Arial"/>
              </a:rPr>
              <a:t>  stover  grain  wheat  straw  cotton and m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5335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Ethan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http://photos.autoexpress.co.uk/images/front_picture_library_UK/dir_412/car_photo_206456_7.jpg"/>
          <p:cNvPicPr/>
          <p:nvPr/>
        </p:nvPicPr>
        <p:blipFill>
          <a:blip r:embed="rId1"/>
          <a:stretch/>
        </p:blipFill>
        <p:spPr>
          <a:xfrm>
            <a:off x="838080" y="3962520"/>
            <a:ext cx="3886200" cy="2590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www.cartoonstock.com/newscartoons/cartoonists/gri/lowres/grin688l.jpg"/>
          <p:cNvPicPr/>
          <p:nvPr/>
        </p:nvPicPr>
        <p:blipFill>
          <a:blip r:embed="rId2"/>
          <a:stretch/>
        </p:blipFill>
        <p:spPr>
          <a:xfrm>
            <a:off x="5943600" y="3740040"/>
            <a:ext cx="2971800" cy="3063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2860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balance- energy used to produce fuel is comparable to energy released when burn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 is the most preferred source in the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sil fuels are used to also use etha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thanol is mixed in with petrol to power c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Ethanol agai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it can be us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an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nded with petrol for transpor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dies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replace diesel fuels or use in combination with traditional dies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used in any diesel eng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058160" y="3657600"/>
            <a:ext cx="2085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vantag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Greenhouse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to be 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require changes to current fueling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new opport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a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64320" y="3048120"/>
            <a:ext cx="32083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0520" y="13716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Biodivers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aking land to produce crop, loses land used by animals and wild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Asian countries replacing rainforests with oil pla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Food vs. Fuel Debate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biofuels become profitable to farmers they might reduce the of crops they produce. Less food = higher prices and inf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ay be countered by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en. biofuels which use waste biomass but this may also impact habitat of organis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Disadvan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http://www.allaboutorganic.org/images/crops.jpg"/>
          <p:cNvPicPr/>
          <p:nvPr/>
        </p:nvPicPr>
        <p:blipFill>
          <a:blip r:embed="rId1"/>
          <a:stretch/>
        </p:blipFill>
        <p:spPr>
          <a:xfrm>
            <a:off x="380880" y="3657600"/>
            <a:ext cx="4400640" cy="2925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http://brown.osu.edu/ariculture-natural-resources/corn2.jpg"/>
          <p:cNvPicPr/>
          <p:nvPr/>
        </p:nvPicPr>
        <p:blipFill>
          <a:blip r:embed="rId2"/>
          <a:stretch/>
        </p:blipFill>
        <p:spPr>
          <a:xfrm>
            <a:off x="4016520" y="0"/>
            <a:ext cx="5127480" cy="409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www.lizasreef.com/hope%20for%20the%20rain%20forests/images/peacock.gif"/>
          <p:cNvPicPr/>
          <p:nvPr/>
        </p:nvPicPr>
        <p:blipFill>
          <a:blip r:embed="rId3"/>
          <a:stretch/>
        </p:blipFill>
        <p:spPr>
          <a:xfrm>
            <a:off x="4419720" y="3200400"/>
            <a:ext cx="4286160" cy="2838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www.blueplanetbiomes.org/images/rainforest001.jpg"/>
          <p:cNvPicPr/>
          <p:nvPr/>
        </p:nvPicPr>
        <p:blipFill>
          <a:blip r:embed="rId4"/>
          <a:stretch/>
        </p:blipFill>
        <p:spPr>
          <a:xfrm>
            <a:off x="457200" y="380880"/>
            <a:ext cx="4025880" cy="2514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tbn0.google.com/images?q=tbn:0C9wmBUgXnjq7M:http://www.sfaschool.org/GRADES/3_209_files/asian_toad_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2666880"/>
            <a:ext cx="13035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8:03:50Z</dcterms:created>
  <dc:creator>sasd</dc:creator>
  <dc:description/>
  <dc:language>en-US</dc:language>
  <cp:lastModifiedBy>sasd</cp:lastModifiedBy>
  <dcterms:modified xsi:type="dcterms:W3CDTF">2009-04-27T18:03:09Z</dcterms:modified>
  <cp:revision>11</cp:revision>
  <dc:subject/>
  <dc:title>Biofuels</dc:title>
</cp:coreProperties>
</file>